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equations using addition and sub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Solve y + (-3)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– 3 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      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+ (-3)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double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3 to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Solve. -x - (-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x + 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2   -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x      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     =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(1) + 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double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2 from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n’t gotten x by itself. If we read this aloud, it is “the opposite of x equals -1”. What would x be equ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 -y – (-3)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=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=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olve r + 16 = 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this equation as a balance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ever you do to one side has to be done to the other to keep it balanc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olve r + 16 = 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olve, you must get the variable by itsel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is on the same side as 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r by itself, we must undo the “add 16”. What is the opposite of ad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= 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3 + 16 = 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olve r + 16 = 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16 from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Solve x + 2 = -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the variable by itself.  What is your first ste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2 to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2 from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3 to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3 from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Solve x + 2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    =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+ 2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2 from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omework and tests, be sure to check your work!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son why you should mis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Solve  8 = m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=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= 8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olve  8 = m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=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=  11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3 to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quations, we want to eliminate double sig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(-3) =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written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– (-5) =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writte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5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replace “+ (-  )” with “–” and “– (-  )” with “+”. This will make things less confusing in the fu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9880"/>
            <a:ext cx="777240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62120" y="2743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e equations using addition and subtra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116160" y="617220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Solv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(-3)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94200" y="12049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 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+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y        =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(-3)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2860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the double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3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324480" y="45720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962520" y="27432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rShape1"/>
          <p:cNvSpPr/>
          <p:nvPr/>
        </p:nvSpPr>
        <p:spPr>
          <a:xfrm rot="10800000">
            <a:off x="7391520" y="44956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Solve. -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(-2) =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994200" y="12049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-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2 =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2  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=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0" i="1" lang="en-US" sz="4400" spc="-1" strike="noStrike">
                <a:solidFill>
                  <a:srgbClr val="fc0128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= 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2 =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28600" y="114300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the double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2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n’t gotten x by itself. If we read this aloud, it is “the opposite of x equals -1”. What would x be eq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400800" y="457200"/>
            <a:ext cx="0" cy="3733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419720" y="2743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 rot="10800000">
            <a:off x="7391520" y="44956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-y – (-3)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rShape1"/>
          <p:cNvSpPr/>
          <p:nvPr/>
        </p:nvSpPr>
        <p:spPr>
          <a:xfrm rot="10800000">
            <a:off x="223560" y="349380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105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Solve r + 16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this equation as a balance s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1447920" y="1447920"/>
            <a:ext cx="6297480" cy="4240080"/>
            <a:chOff x="1447920" y="1447920"/>
            <a:chExt cx="6297480" cy="4240080"/>
          </a:xfrm>
        </p:grpSpPr>
        <p:pic>
          <p:nvPicPr>
            <p:cNvPr id="47" name="Picture 7" descr="Balance_scale"/>
            <p:cNvPicPr/>
            <p:nvPr/>
          </p:nvPicPr>
          <p:blipFill>
            <a:blip r:embed="rId1"/>
            <a:stretch/>
          </p:blipFill>
          <p:spPr>
            <a:xfrm>
              <a:off x="1447920" y="1447920"/>
              <a:ext cx="6297480" cy="42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WordArt 8"/>
            <p:cNvSpPr txBox="1"/>
            <p:nvPr/>
          </p:nvSpPr>
          <p:spPr>
            <a:xfrm>
              <a:off x="2066760" y="3467160"/>
              <a:ext cx="981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 + 16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9" name="WordArt 9"/>
            <p:cNvSpPr txBox="1"/>
            <p:nvPr/>
          </p:nvSpPr>
          <p:spPr>
            <a:xfrm>
              <a:off x="6257880" y="3505320"/>
              <a:ext cx="523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-7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" name="WordArt 10"/>
            <p:cNvSpPr txBox="1"/>
            <p:nvPr/>
          </p:nvSpPr>
          <p:spPr>
            <a:xfrm>
              <a:off x="4352760" y="3505320"/>
              <a:ext cx="5241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=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1" name="Rectangle 12"/>
          <p:cNvSpPr/>
          <p:nvPr/>
        </p:nvSpPr>
        <p:spPr>
          <a:xfrm>
            <a:off x="380880" y="57150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6000"/>
          </a:bodyPr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ever you do to one side has to be done to the other to keep it balanc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Solve r + 16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olve, you must get the variable by itself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number is on the same side as 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0093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r by itself, we must undo the “add 16”. What is the opposite of addi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0093"/>
                </a:solidFill>
                <a:latin typeface="Times New Roman"/>
              </a:rPr>
              <a:t>Subtract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403848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1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-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r          = -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-2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16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Solve r + 16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04920" y="1981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19920" y="114300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16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962520" y="25909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rShape1"/>
          <p:cNvSpPr/>
          <p:nvPr/>
        </p:nvSpPr>
        <p:spPr>
          <a:xfrm rot="10800000">
            <a:off x="7467480" y="43434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 = -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 the variable by itself.  What is your first ste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2044440"/>
            <a:ext cx="57150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2 to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2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3 to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3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rShape1"/>
          <p:cNvSpPr/>
          <p:nvPr/>
        </p:nvSpPr>
        <p:spPr>
          <a:xfrm rot="10800000">
            <a:off x="71280" y="276984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65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ut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olv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 =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96252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x       = -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-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 =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2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900760" y="64296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962520" y="19810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rShape1"/>
          <p:cNvSpPr/>
          <p:nvPr/>
        </p:nvSpPr>
        <p:spPr>
          <a:xfrm rot="10800000">
            <a:off x="7391520" y="37339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304920" y="5181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homework and tests, be sure to check your work!!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is no reason why you should miss a problem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Solve  8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=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=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= 8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rShape1"/>
          <p:cNvSpPr/>
          <p:nvPr/>
        </p:nvSpPr>
        <p:spPr>
          <a:xfrm rot="10800000">
            <a:off x="390240" y="265068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78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ut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Solve  8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6252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1= </a:t>
            </a:r>
            <a:r>
              <a:rPr b="0" i="1" lang="en-US" sz="4400" spc="-1" strike="noStrike">
                <a:solidFill>
                  <a:srgbClr val="fc0128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 =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2860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3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5199120" y="64296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>
            <a:off x="3962520" y="19810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rShape1"/>
          <p:cNvSpPr/>
          <p:nvPr/>
        </p:nvSpPr>
        <p:spPr>
          <a:xfrm rot="10800000">
            <a:off x="7391520" y="37339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solving equations, we want to eliminate double sig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3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= 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rewritte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3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= 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rewritte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 =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5654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general rule, re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+ (-  )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–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– (-  )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+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will make things less confusing in the fu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4T18:24:24Z</dcterms:created>
  <dc:creator>Skip Tyler</dc:creator>
  <dc:description/>
  <cp:keywords/>
  <dc:language>en-US</dc:language>
  <cp:lastModifiedBy>LEGION</cp:lastModifiedBy>
  <cp:lastPrinted>2009-04-22T19:24:48Z</cp:lastPrinted>
  <dcterms:modified xsi:type="dcterms:W3CDTF">2017-07-06T06:40:03Z</dcterms:modified>
  <cp:revision>39</cp:revision>
  <dc:subject/>
  <dc:title>Solving Equations with Addition and Subtraction</dc:title>
</cp:coreProperties>
</file>